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11360" y="812520"/>
            <a:ext cx="868680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día Moisés murió y Dios necesitaba un nuevo líder para su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escogió a su otro amigo, Josué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a gente no sabía lo mucho que Josué conocía a Dios, pero Dios lo sab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ando somos amigos de Dios, él nos usa para hacer cosas muy important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2760" y="4025520"/>
            <a:ext cx="914400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El niño que sabía demasiad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11000" y="1066680"/>
            <a:ext cx="8839080" cy="764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isés era un hombre que Dios escogió para que fuera el líder de su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tenía un grupo grande de gente y los quería ayudar a tener una vida mej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isés oraba mucho, confiaba en Dios y por eso era amigo de Dio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escucha las oraciones de sus am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34680" y="762120"/>
            <a:ext cx="8991720" cy="825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trabajo de Moisés era hablar con Dios de las cosas que pasaban entre los hijos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le daba consejos a Moisés. Le decía qué hacer para que la gente fuera feli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ces la gente se olvidaba de Dios y hacían cosas que les causaban problem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o, Dios escuchaba las oraciones de sus hij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899136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isés tenía mucho trabajo ayudando y orando por la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í que, buscó a un joven que lo ayudara con todo su trabajo. Ese joven era Josué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era un joven obediente y aprendió mucho de Moisé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osué aprendió que Dios escucha las oracio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11000" y="1270080"/>
            <a:ext cx="89154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Moisés hablaba con Dios, Josué estaba cerca y escuchab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aprendió a hablar con Dios como Moisé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también aprendió de los milagros grandes y lindos que Dios hace cuando le pedimos ayu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osué aprendió a tener fe en el poder de Dio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11000" y="1270080"/>
            <a:ext cx="883908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ces Moisés pasaba todo el día en una carpa orando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s noches, Moisés se iba a su casa a descansa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 Josué tenía un secreto que nadie sab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ANDO MOISÉS SE IBA  A DORMIR, JOSUÉ SE QUEDABA HABLANDO CON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906768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había visto que Moisés hablaba con Dios y que Dios lo escuchab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también había visto que Moisés era amig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decidió que él también quería ser amig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amigos de Dios hablamos mucho con é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8686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ué siguió creciendo y siendo amig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die sabía cuántas veces ellos hablaban. Era como un secre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ces oramos con otros, otras veces oramos en secreto, solos con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escucha todas las oracio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ddy Fernandez</cp:lastModifiedBy>
  <dcterms:modified xsi:type="dcterms:W3CDTF">2013-02-28T16:05:32Z</dcterms:modified>
  <cp:revision>15</cp:revision>
  <dc:subject/>
  <dc:title>El niño que sabia demasiado</dc:title>
</cp:coreProperties>
</file>